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D92-D0AC-4417-9DD9-FA2FEF94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DDB-8C6F-4F39-A075-6CFF057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CE8-FAB1-4DE1-AD84-49F5BC83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FBD-4543-4373-9D62-A1B15CBD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538-D67A-48EC-A84E-0E13CA8D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2B1C-51E8-48FE-8F1F-1CE464AD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F355-9DA0-4EB6-AA24-26822F7D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F0D-CACC-4F8D-A57B-09A61F90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3FC6-CBA8-4986-98F4-939D7006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350A-FF5D-4CA3-9ECD-B18DC1E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77F-1A67-4A36-AD5E-DCA53DD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4DE-3EC5-431D-94A6-C53AF945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9866-EF89-4A27-97EE-AA2C1438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1501-9E75-4EF0-A134-768E4B1E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F074-C487-442A-B1FB-6711B31A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BAA-81C1-4DD2-8587-677025DA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0EF2-7098-45C8-9FC0-B11594F5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3F2-D18A-45A8-8E7F-9047917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ADB-1649-4C32-9FB1-695506A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93C-8E87-4BB3-9DCC-EDF49FD6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8D2-893B-42F7-9E22-6CC51E9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84F-4423-48B0-A858-D40CB364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714-E1D8-4185-955E-FA87850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158-76C9-494D-B347-9341B2C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BE56-FA3F-4C42-8456-B37337612C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607-BB2E-4197-B9AB-002F948913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НАПРЕЂЕЊЕ ОРГАНИЗАЦИОНИХ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ЦЕС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2. Планирање процеса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еирање крос-функционалних тим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дентификовање свих конституената (интересних гру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гажовање експе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енинг менаџ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езбеђивање података о текућем стању посл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3. Објављивањ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у фазу чине следеће акт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јашњавање пословне ства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јављивање одл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дређивање тајм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4. Имплемент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у фазу чине следећи елем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аопштавање ис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оћ радницима који остају без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лога прав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бровољни одлас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кључивање запослених у имплемен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ука за </a:t>
            </a:r>
            <a:r>
              <a:rPr b="1" lang="sr-Latn-R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живеле</a:t>
            </a:r>
            <a:r>
              <a:rPr b="1" lang="sr-Latn-R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3760" y="1752480"/>
            <a:ext cx="91202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9080" y="1852560"/>
            <a:ext cx="90615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такти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времено пензион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мештање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plac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зну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бровољни одлас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екид нових запошљ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sourcing и укидање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мањивање организационих ниво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ајање јед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едизајн по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тицај на запослен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груп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х који су под утицајем стратегије СБЗ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слени који напуштају орган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реживел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– запослени који остају у организацији након реорган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Терминатор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еживел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ји спроводе план СБ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атегорије ″Преживелих″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живели″ који обавезују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лојални, хладнокрвни и следе инструк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е над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ихватају иницијативу и укључују се у решавање пробл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трахуј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уплашени и пасив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у цинич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отворено противљење целом проц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знањем током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709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ступ СБЗ заснован на зн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ћ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бле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овање суштинске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мапирати знањ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спречити одлазак лидера знања из организац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обезбедити кодификација и персонализациј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еф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инжењеринг пословног процеса представљ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гр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калних организационих пром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ји у првом плану има процес пос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и смерни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инжењеринга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рода промена коју изаз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спектива организа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итна улога информационе технолог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 процеса у којима се рад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инжењерин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јчешћ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ухв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знавање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варање мапе проц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ор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умевање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ефиницију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изајн процес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итуционализацију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финисање пробл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инжењеринг се често повезује са процесо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енчмаркин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оређење са најбољима) и постој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тири типа тог проце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инте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конкурент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функционал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генер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е планирана елиминација великог броја запослених спроведена у сврху побољшања организационе конкур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БЗ ≠ 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 односи на тактичке акције елиминације редундантних вештина, а СБЗ је дугорочна стратегија којој отпуштање може да до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(смањивање броја запослених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е планирана елиминација великог броја запослених спроведена у сврху побољшања организационе конкур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БЗ ≠ 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 односи на тактичке акције елиминације редундантних вештина, а СБЗ је дугорочна стратегија којој отпуштање може да до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процес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проце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не следеће фа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ношење одлуке о смањивању број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ланирање читавог проц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јављ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мплементација СБЗ страте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1. Доношење одлуке о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 одлуке о СБ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а размот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цај н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нкурентску поз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уктуре рад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ге која ће подржати конкурентску п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постојећих и потребних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еш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дне сн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луација постојећ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ксе У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овањ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итичних тачака у У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1. Доношење одлуке о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као последњи изб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е одлуке треба преиспитати могућности краткорочних мера: замрзавање плата, престанак запошљавање, онемогућавање прековременог рада, укидање бонуса, скраћивање радне недеље или коришћење неплаћених од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Јачање кредибилне ви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7:51:37Z</dcterms:modified>
  <cp:revision>184</cp:revision>
  <dc:subject/>
  <dc:title>Soft and Hard Skills Development: A Current Situation in Serbian Companies</dc:title>
</cp:coreProperties>
</file>